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159-4CD5-402E-AA30-E863F2AFEC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0879-1F5F-477B-ACA3-5E4248D77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1A5-EB98-4BD9-815A-92D4A3F55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re scientists?  Use same rigour in teaching as in scientific endeav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in science because scientists don’t usually read pedagological 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61CB-CBAF-4D39-9A70-02A3A3180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510-5F3B-42E0-87AC-A94BAEF8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00B-5645-4CB7-8072-EFE4F58B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F6A-BDB9-4891-970D-C3F00092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5B2-9AD0-4B73-87AD-56ACF4B0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08FE-3E09-460B-9A12-CF496AEC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C3F-D7D8-4290-8CD9-F8E54F9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AB9-5AEB-4F97-AAAC-3BCCB712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F770-8E4B-4C8D-910B-5F51B04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873-D9AF-4EC7-898C-2B9236D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A2F5-4D24-4D0E-AD95-84F2D3F3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CE3-D0E6-4959-9BEC-1B6575C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F89-51DE-42E3-AF16-6D16836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8B06-9D67-465F-8FD0-634BCB9D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DC2C-6C99-422B-92DD-B661BD6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4C53-472E-47ED-90BF-EA63E30B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E97-0F69-4ABC-AEAB-BAFAEE05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1E7B-F3C0-4D44-9572-52CA6756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B6CC-FA52-4E08-81C8-B5D93C85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E312-B7AD-410B-9588-7486089F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567E-4FBE-4927-B7E2-FAB06A8A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3E7F-8DC2-4660-AF3E-2976B95C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A8AA-8D35-4BD9-8F57-85A59349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F61-179D-4DF3-AAB9-D61C8D2A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1EE7-7B9C-4C69-B6CD-8409EB2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FA73-46D0-41B6-B7E6-8159538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58C3-8D7B-4754-A20D-4AA2C6A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DCEF-4063-4391-8AB2-F4EE0CD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0372-9962-4D3E-BB87-0897BD68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1377-4FE3-4B4A-AA78-78B57025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DCA1-7677-45D1-8B52-0099CE69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1ED9-CAD3-446D-9B3A-5ACC3624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9CBD-BC69-4CC0-A26B-063FABF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9EC5-25BC-4A3E-A2FB-66D76CBD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EB0-4F3E-4314-912F-271262C3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B835-1772-47D4-ADA2-13C2833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0E2E-D1B1-4EA2-8CE1-58427CC1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AE16-48EE-47C8-9B8B-B5916E30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30E1-2BF8-46B0-9D24-A3A98AC5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B839-5255-4563-B310-3362DBCE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EC11-4747-408B-91A8-1ED8472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475B-C1BF-45A2-8AD4-74154518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DD78-E29A-4798-9571-1AF08B9F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D6DD-9F66-490B-AB7F-502EF02D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AF1AA-A0EE-456C-85BB-D658EC76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C63-16F7-46CE-909B-530C832C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FC73-96A2-48B7-BF07-87EE0034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08A6-4AD8-40D3-8C40-48DF463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D4D4-9BC2-4331-B8F7-43923123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8E92-175B-4E16-9BDA-F8538324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DCE8-9908-4429-B492-CA024E13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95F5-2BB9-4EB1-A84A-96F4694A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5755-CC96-4EA8-B2F0-C4708AE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D247-D066-4365-A88F-8252DB2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0CE8-2A28-4B83-9586-F5D39C30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2CE0-196B-4BCE-8769-6357164E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C10-33C6-41D9-9668-E6ECD016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FD41-E1BF-4C59-A4F5-A9F84162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0745-0F0A-4347-B77E-D2419CA3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AF37-51A0-4F21-A6A2-2EB3B35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768E-9124-4883-BF95-DF1235ED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C904-DF2F-4142-9A1B-25DF03A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1ECA0-4176-4341-8561-6D4EB207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97DC1-A2AC-4A28-97DB-C4ADF4E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CAB04-6CB8-45A0-8316-710869F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65A9E-738A-4E9D-B9C3-F48E848E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76CF-2940-44F7-AA48-A00C74D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694-E434-453B-928A-C301ACEE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06666-6E11-46A0-B918-DE66CB5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150D-FBE6-4351-9A15-74C6D90E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9AC34-E855-47C3-8784-9E4F3DD6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5A7E4-A019-4604-9F8C-FAA4E3A6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F0DFE-9773-4F04-8250-60C41C03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F937-17BB-4DA9-B955-4E588F57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7F3B-F18E-4D1B-B7A9-973119D9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711F-365D-4345-A1F6-2BCD430A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310E2-D2B7-457C-BFC1-68C8D88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06161-5D1D-489B-8784-32443A4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45A-E35F-45D8-BAB1-B6C768B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5E001-BD35-494E-BCE0-5187BE1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5C8E-B95B-48A7-9AE2-726138E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342F-B7E5-4586-9936-8BA1C215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56663-4A6D-4A2D-8F57-054F419D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6DB0-BC61-4D7E-B527-741704BD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079-0D30-4B44-8187-6D8DB36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2556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5D23-85F6-4213-8D50-123C45D8F30F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4F8-C7A8-42F0-B28B-FD01532B970D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2556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1a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792F-9776-4EDC-85FA-DFD91FF3A172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25F1-9000-4592-ACDE-99DFBE2061F2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1a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89D9-205D-497B-B985-BDB8BE7CE002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B1B-795A-433E-9164-F3C3679AD62D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8355-47F7-4662-B0F1-02040693B761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A6D-2FAB-47FD-947C-E4034D2F4C0A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F66D-DCBE-4072-8291-E311D60F898B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C94-1D62-4F32-85F1-0325F6079937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8B9D-3F0A-4E95-94A6-07EA658652A6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142-AE68-4F36-B439-A5C5970CF4C5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FBEB-7179-4F1C-A676-3B3EC8785A07}" type="datetime">
              <a:rPr b="0" lang="en-US" sz="1200" spc="-1" strike="noStrike">
                <a:solidFill>
                  <a:srgbClr val="93889f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4F35-1EA8-4F66-AA5C-3BC602E25C42}" type="slidenum">
              <a:rPr b="0" lang="en-US" sz="1200" spc="-1" strike="noStrike">
                <a:solidFill>
                  <a:srgbClr val="93889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BIOLOGY CONCEPT INVENTORIES: </a:t>
            </a:r>
            <a:br>
              <a:rPr sz="4300"/>
            </a:b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Development and Use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66e"/>
                </a:solidFill>
                <a:latin typeface="Gill Sans MT"/>
              </a:rPr>
              <a:t>BIOLOGY CONCEPT INVENTORIES &amp; DIAGNOSTIC QUESTION CLUSTERS</a:t>
            </a:r>
            <a:endParaRPr b="0" lang="en-US" sz="32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ublished inventorie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smosis and diffusion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iratory and cardiovascular physiology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tural sel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QC: Tracing matter in dynamic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tics and regulation of gene expre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lecular and cell bi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-pathogen inte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CQs on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inking like a biologis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ventories under development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karyotic cell structure &amp; gene regul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pulation, community, ecosystem ec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ation, phylogenetic tr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ms W,  Wieman C.  2010. 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Development and validation of instruments to measure learning of expert-like thinking.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rnational Journal of Science Educ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66e"/>
                </a:solidFill>
                <a:latin typeface="Gill Sans MT"/>
              </a:rPr>
              <a:t>HOW TO DEVELOP A CONCEPT INVENTORY</a:t>
            </a:r>
            <a:endParaRPr b="0" lang="en-US" sz="36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Identification of key concepts by instru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Qualitative research into student misconce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Development of a MC test in which student misconceptions are used as distrac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 Validation interviews on test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66e"/>
                </a:solidFill>
                <a:latin typeface="Gill Sans MT"/>
              </a:rPr>
              <a:t>HOW TO DEVELOP A CONCEPT INVENTORY</a:t>
            </a:r>
            <a:endParaRPr b="0" lang="en-US" sz="36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 Administer pre-tests (before instruction) and post-tests (after instruction) to a large class, typically several hundred, and determine learning ga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Statistical analy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ility of the test as a whol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em analysi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 –  Item difficul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 – Item discrimin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66e"/>
                </a:solidFill>
                <a:latin typeface="Gill Sans MT"/>
              </a:rPr>
              <a:t>USING CONCEPT INVENTORIES</a:t>
            </a:r>
            <a:endParaRPr b="0" lang="en-US" sz="40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ess student learning gains in conceptual understa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the effectiveness of different teaching techniques in promoting conceptual understa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How else can concept inventories be used?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xplosion 1 5" descr=""/>
          <p:cNvPicPr/>
          <p:nvPr/>
        </p:nvPicPr>
        <p:blipFill>
          <a:blip r:embed="rId2"/>
          <a:stretch/>
        </p:blipFill>
        <p:spPr>
          <a:xfrm>
            <a:off x="1859040" y="1579680"/>
            <a:ext cx="6284880" cy="47419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990720" y="609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ite for Conceptual Assessments in Biology: posting, use,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544680" y="495288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CAB 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ciHUB. org</a:t>
            </a:r>
            <a:endParaRPr b="0" lang="en-US" sz="54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50" name="Content Placeholder 3" descr="cihub - Home.jpg"/>
          <p:cNvPicPr/>
          <p:nvPr/>
        </p:nvPicPr>
        <p:blipFill>
          <a:blip r:embed="rId2"/>
          <a:srcRect l="3694" t="0" r="6890" b="21680"/>
          <a:stretch/>
        </p:blipFill>
        <p:spPr>
          <a:xfrm>
            <a:off x="1371600" y="1295280"/>
            <a:ext cx="640080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Box 5"/>
          <p:cNvSpPr/>
          <p:nvPr/>
        </p:nvSpPr>
        <p:spPr>
          <a:xfrm>
            <a:off x="926280" y="5211720"/>
            <a:ext cx="70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ngineering, Physics, Chemistry,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137240" y="606420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due Engineering: Teri Reed-Rhoads, P.K. Imbri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HUBzero.org</a:t>
            </a:r>
            <a:endParaRPr b="0" lang="en-US" sz="54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54" name="Content Placeholder 3" descr="HUBzero - Platform for Scientific Collaboration2.jpg"/>
          <p:cNvPicPr/>
          <p:nvPr/>
        </p:nvPicPr>
        <p:blipFill>
          <a:blip r:embed="rId2"/>
          <a:srcRect l="-5794" t="0" r="-5794" b="0"/>
          <a:stretch/>
        </p:blipFill>
        <p:spPr>
          <a:xfrm>
            <a:off x="1425600" y="1371600"/>
            <a:ext cx="614052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5" name="TextBox 4"/>
          <p:cNvSpPr/>
          <p:nvPr/>
        </p:nvSpPr>
        <p:spPr>
          <a:xfrm>
            <a:off x="858960" y="5450040"/>
            <a:ext cx="68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tform for Scientific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nanoHUB.org</a:t>
            </a:r>
            <a:endParaRPr b="0" lang="en-US" sz="54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57" name="Content Placeholder 9" descr="nanoHUB.org - Simulation, Education, and Community for Nanotechnology2.jpg"/>
          <p:cNvPicPr/>
          <p:nvPr/>
        </p:nvPicPr>
        <p:blipFill>
          <a:blip r:embed="rId2"/>
          <a:srcRect l="-9318" t="0" r="-9318" b="0"/>
          <a:stretch/>
        </p:blipFill>
        <p:spPr>
          <a:xfrm>
            <a:off x="1371600" y="1219320"/>
            <a:ext cx="5864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TextBox 10"/>
          <p:cNvSpPr/>
          <p:nvPr/>
        </p:nvSpPr>
        <p:spPr>
          <a:xfrm>
            <a:off x="1447920" y="545004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Simulation and More for Nan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9666e"/>
                </a:solidFill>
                <a:latin typeface="Gill Sans MT"/>
              </a:rPr>
              <a:t>SCIENTIFIC TEACHING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AS report “Science for all Americans”: Reform in science education should be founded on scientific teach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Explosion 1 5" descr=""/>
          <p:cNvPicPr/>
          <p:nvPr/>
        </p:nvPicPr>
        <p:blipFill>
          <a:blip r:embed="rId2"/>
          <a:stretch/>
        </p:blipFill>
        <p:spPr>
          <a:xfrm>
            <a:off x="1633680" y="1347840"/>
            <a:ext cx="6278400" cy="4748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990720" y="609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ite for Conceptual Assessments in Biology: posting, use,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6182640" y="5410080"/>
            <a:ext cx="19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 u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andelsman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Scientific Teaching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Scienc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2004: 304 (5670): 521–522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aching should be approached with the same rigor as scienc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sessment of teaching techniques in controlled experiments has shown active learning strategies to engage students in study of science improve performance of student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What is our primary goal </a:t>
            </a:r>
            <a:br>
              <a:rPr sz="4300"/>
            </a:b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as instructors?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 suitable educational goal is to have students thinking more like experts and approaching the mastery of the subject like an expe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us, it is desirable to have test instruments that measure student thinking on a scale that distinguishes between novice and expert thinking.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ms and Wiem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What is a </a:t>
            </a:r>
            <a:br>
              <a:rPr sz="4300"/>
            </a:br>
            <a:r>
              <a:rPr b="1" lang="en-US" sz="4300" spc="-1" strike="noStrike">
                <a:solidFill>
                  <a:srgbClr val="660066"/>
                </a:solidFill>
                <a:latin typeface="Gill Sans MT"/>
              </a:rPr>
              <a:t>concept inventory?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 concept inventory is an outline of core knowledge and concepts for a given field and a collection of multiple choice questions designed to probe student understanding of these fundamental concepts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Redish, 200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9666e"/>
                </a:solidFill>
                <a:latin typeface="Gill Sans MT"/>
              </a:rPr>
              <a:t>HOW DO CONCEPT INVENTORIES DIFFER FROM STUDENT ASSESSMENT?</a:t>
            </a:r>
            <a:endParaRPr b="0" lang="en-US" sz="39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1240" y="25142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 probe students’ conceptual understan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 are based on research into student misconcep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I distracters are chosen to reflect common student misconcep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 primary goal [of a concept inventory] is not to obtain a summative assessment of student learning; rather, it is to provide formative assessment of teach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ms and Wiem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3:48:49Z</dcterms:created>
  <dc:creator/>
  <dc:description/>
  <dc:language>en-US</dc:language>
  <cp:lastModifiedBy>Robin Heyden</cp:lastModifiedBy>
  <dcterms:modified xsi:type="dcterms:W3CDTF">2011-03-12T21:24:53Z</dcterms:modified>
  <cp:revision>88</cp:revision>
  <dc:subject/>
  <dc:title>BIOLOGY CONCEPT INVENTORY (BCI)</dc:title>
</cp:coreProperties>
</file>